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CAE4-8D7F-4C19-B0F2-491218085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9EE0-D19F-4FC4-B151-8F468A3ED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1419-221F-40BF-B2CB-BF8958803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7B66-A529-4E99-B10F-AFC12C567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7A20-4669-47EF-A232-C0BD6DD27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870B-C874-4B9B-9B2F-DD17C3ED9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BB5C-C6B7-4729-894E-C54F4E45E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0D06-AC56-4196-9AC9-ED953C8CD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98FB-DD59-4F71-92E1-F343C992D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C26D-A1A9-483E-A74C-680803705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DF69-0BD3-41DE-AFEF-7F031D7CB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F0CD-22D1-4627-B98A-8DC10CEE8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0B58-054A-4949-A346-2F6F12757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B19A-8E3F-40E9-B67E-F76CE090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90E-18D2-46DB-A3C8-8B1B93FD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F746-E2C3-4CDE-A908-5171C8C5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9CC9-1A8C-46D5-B61F-F7913BC0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CF9D-A697-423C-8A5E-DD3FF502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D0A-E4FB-4A02-B62E-E05B40C8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DFDE-D679-4A88-8EE6-782EAB75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0FDF-AC99-4544-816F-99F4BC1A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D032-3706-47B8-B3B1-5BE075EE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9E6D-1389-40C3-8556-56309603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AC28-CE3C-4A19-A6C7-1A787A59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9BA7-6BEF-485E-9F5E-9B480C9F6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EE71-8592-4CAA-86EA-F4A652C52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5767200" cy="7467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5000"/>
          </a:bodyPr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lationship between power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urrent, voltage and resistanc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 = power (wat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 = current (amper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 = voltage (vol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 = resistance (ohm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ating tape uses 5 amps at 120 vol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wer dissipated by this device is 600 watt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2286000" y="3505320"/>
                <a:ext cx="2209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441360" y="141300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2286000" y="2747880"/>
                <a:ext cx="2174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11"/>
              <p:cNvSpPr txBox="1"/>
              <p:nvPr/>
            </p:nvSpPr>
            <p:spPr>
              <a:xfrm>
                <a:off x="2286000" y="4272120"/>
                <a:ext cx="24400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e careful with electricit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sk someone for help if you are unsur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110-1018_IMG"/>
          <p:cNvPicPr/>
          <p:nvPr/>
        </p:nvPicPr>
        <p:blipFill>
          <a:blip r:embed="rId1"/>
          <a:stretch/>
        </p:blipFill>
        <p:spPr>
          <a:xfrm>
            <a:off x="1314360" y="2641680"/>
            <a:ext cx="4743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110-1023_IMG"/>
          <p:cNvPicPr/>
          <p:nvPr/>
        </p:nvPicPr>
        <p:blipFill>
          <a:blip r:embed="rId1"/>
          <a:stretch/>
        </p:blipFill>
        <p:spPr>
          <a:xfrm>
            <a:off x="1200240" y="264168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 vs. DC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5770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irect current (DC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Documents and Settings\josh\Desktop\Graph1.EMF"/>
          <p:cNvPicPr/>
          <p:nvPr/>
        </p:nvPicPr>
        <p:blipFill>
          <a:blip r:embed="rId1"/>
          <a:stretch/>
        </p:blipFill>
        <p:spPr>
          <a:xfrm>
            <a:off x="914400" y="2209680"/>
            <a:ext cx="4610160" cy="5639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518480" y="7848720"/>
            <a:ext cx="4060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Arial"/>
              </a:rPr>
              <a:t>Alternating current (A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577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wer requirements (inpu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3048120"/>
          <a:ext cx="6019560" cy="3689280"/>
        </p:xfrm>
        <a:graphic>
          <a:graphicData uri="http://schemas.openxmlformats.org/drawingml/2006/table">
            <a:tbl>
              <a:tblPr/>
              <a:tblGrid>
                <a:gridCol w="2619360"/>
                <a:gridCol w="1008000"/>
                <a:gridCol w="1173240"/>
                <a:gridCol w="12189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qui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ol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at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b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ing tape (bi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 g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ethal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rt below assumes 1 second hand to fo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osure to 120 volt, 60 cycle AC power supp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2590920"/>
          <a:ext cx="5791320" cy="4917960"/>
        </p:xfrm>
        <a:graphic>
          <a:graphicData uri="http://schemas.openxmlformats.org/drawingml/2006/table">
            <a:tbl>
              <a:tblPr/>
              <a:tblGrid>
                <a:gridCol w="2210040"/>
                <a:gridCol w="3581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 shock felt; not painful but disturb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3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ful shock; "let-go" r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15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eme pain, respiratory arrest, severe muscular contra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-4,30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ricular fibril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+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arrest, severe burns and probable dea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60"/>
          <p:cNvSpPr/>
          <p:nvPr/>
        </p:nvSpPr>
        <p:spPr>
          <a:xfrm>
            <a:off x="517680" y="796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1"/>
          <p:cNvSpPr/>
          <p:nvPr/>
        </p:nvSpPr>
        <p:spPr>
          <a:xfrm>
            <a:off x="460440" y="7924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boratory wall outlets provide 20,000 mA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Fuse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malfunctioning equipment from draw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ductor melts if too much current flows through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used o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ways use the correct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1371600" y="3809880"/>
            <a:ext cx="1563840" cy="1983600"/>
            <a:chOff x="1371600" y="3809880"/>
            <a:chExt cx="1563840" cy="1983600"/>
          </a:xfrm>
        </p:grpSpPr>
        <p:pic>
          <p:nvPicPr>
            <p:cNvPr id="69" name="Picture 11" descr="http://static.howstuffworks.com/gif/wfc-fuse-good.jpg"/>
            <p:cNvPicPr/>
            <p:nvPr/>
          </p:nvPicPr>
          <p:blipFill>
            <a:blip r:embed="rId1"/>
            <a:stretch/>
          </p:blipFill>
          <p:spPr>
            <a:xfrm>
              <a:off x="1371600" y="3809880"/>
              <a:ext cx="156384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/>
            <p:cNvSpPr/>
            <p:nvPr/>
          </p:nvSpPr>
          <p:spPr>
            <a:xfrm>
              <a:off x="1450440" y="53337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6"/>
          <p:cNvGrpSpPr/>
          <p:nvPr/>
        </p:nvGrpSpPr>
        <p:grpSpPr>
          <a:xfrm>
            <a:off x="3581280" y="3809880"/>
            <a:ext cx="1710000" cy="1983600"/>
            <a:chOff x="3581280" y="3809880"/>
            <a:chExt cx="1710000" cy="1983600"/>
          </a:xfrm>
        </p:grpSpPr>
        <p:pic>
          <p:nvPicPr>
            <p:cNvPr id="72" name="Picture 7" descr="http://static.howstuffworks.com/gif/wfc-fuse-blown.jpg"/>
            <p:cNvPicPr/>
            <p:nvPr/>
          </p:nvPicPr>
          <p:blipFill>
            <a:blip r:embed="rId2"/>
            <a:stretch/>
          </p:blipFill>
          <p:spPr>
            <a:xfrm>
              <a:off x="3581280" y="3809880"/>
              <a:ext cx="1710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4"/>
            <p:cNvSpPr/>
            <p:nvPr/>
          </p:nvSpPr>
          <p:spPr>
            <a:xfrm>
              <a:off x="3603600" y="533376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lown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chanical switch is driven by an electromagne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reset many ti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1655640" y="3230640"/>
            <a:ext cx="2381400" cy="2682720"/>
            <a:chOff x="1655640" y="3230640"/>
            <a:chExt cx="2381400" cy="2682720"/>
          </a:xfrm>
        </p:grpSpPr>
        <p:sp>
          <p:nvSpPr>
            <p:cNvPr id="77" name="Rectangle 10"/>
            <p:cNvSpPr/>
            <p:nvPr/>
          </p:nvSpPr>
          <p:spPr>
            <a:xfrm>
              <a:off x="1655640" y="323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1655640" y="3230640"/>
              <a:ext cx="2381400" cy="26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Picture 12" descr="http://static.howstuffworks.com/gif/circuit-breaker-diagram.gif"/>
          <p:cNvPicPr/>
          <p:nvPr/>
        </p:nvPicPr>
        <p:blipFill>
          <a:blip r:embed="rId1"/>
          <a:stretch/>
        </p:blipFill>
        <p:spPr>
          <a:xfrm>
            <a:off x="1143000" y="48006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circuit breaker may cover many electrical receptacles in a la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ptacles in some labs are labeled with a number that corresponds to a circuit break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8"/>
          <p:cNvGraphicFramePr/>
          <p:nvPr/>
        </p:nvGraphicFramePr>
        <p:xfrm>
          <a:off x="1066680" y="4876920"/>
          <a:ext cx="50799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876920"/>
                    <a:ext cx="5079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5823000" cy="723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oid contact with energized circu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sconnect the power source before servicing or repairing electrical equip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ork with only one hand, keeping the other hand behind you or in a poc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water or a chemical is spilled onto equipment, shut off power at the main switch or circuit breaker and unplug the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an individual comes in contact with a live electrical conductor, do not touch the equipment, cord or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Disconnect the power source from the circuit breaker or pull out the plug using a leather belt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7909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Electrical Fir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nplug equipment firs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se dry chemical fire extinguishe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f fire is large, unplug equipment and call fire dep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Arial"/>
              </a:rPr>
              <a:t>Never use water!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Documents and Settings\josh\Application Data\Microsoft\Media Catalog\Downloaded Clips\cl0\HH00861_.wmf"/>
          <p:cNvPicPr/>
          <p:nvPr/>
        </p:nvPicPr>
        <p:blipFill>
          <a:blip r:embed="rId1"/>
          <a:stretch/>
        </p:blipFill>
        <p:spPr>
          <a:xfrm>
            <a:off x="4114800" y="1447920"/>
            <a:ext cx="808200" cy="1644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Common Files\Microsoft Shared\Clipart\cagcat50\bd06711_.wmf"/>
          <p:cNvPicPr/>
          <p:nvPr/>
        </p:nvPicPr>
        <p:blipFill>
          <a:blip r:embed="rId2"/>
          <a:stretch/>
        </p:blipFill>
        <p:spPr>
          <a:xfrm>
            <a:off x="4724280" y="7086600"/>
            <a:ext cx="1757520" cy="16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4:02:02Z</dcterms:created>
  <dc:creator>josh</dc:creator>
  <dc:description/>
  <dc:language>en-US</dc:language>
  <cp:lastModifiedBy>دشئث</cp:lastModifiedBy>
  <dcterms:modified xsi:type="dcterms:W3CDTF">2010-10-16T15:59:47Z</dcterms:modified>
  <cp:revision>26</cp:revision>
  <dc:subject/>
  <dc:title>Electrical Safety in the Laboratory</dc:title>
</cp:coreProperties>
</file>